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3C26-3F62-496F-83C6-128E382A84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E83-0DB4-4415-BAFD-C049EF1B79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A3C-9B80-4C91-B8DA-E9D8597D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395-C38B-4C84-BFD7-E0BF4A7D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AB5-A4A1-44EE-9EFE-E7C5AA78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A39-0EBE-4B34-9FC5-CB50D517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BD6-93FE-4D66-858F-2485C5A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ABF-B0C5-4526-A489-4A5051FC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96A-97ED-4D41-BEC7-FAD6BE26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6E9-870A-44C0-A5DA-CD35F86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D25-1730-4534-B2B1-215D2A0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614-9EDC-4E25-A41B-938C64F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692-8161-487C-806E-C1E6C1F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F43-B810-485C-8D3F-BD8DE9A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ECA-D7BD-4BDC-8BD7-0BF7E44EFD4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ÁB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3644640"/>
            <a:ext cx="7161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898989"/>
                </a:solidFill>
                <a:latin typeface="Calibri"/>
              </a:rPr>
              <a:t>RATO DO CAMPO E RATO DA C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spaço Reservado para Conteúdo 3" descr="O rato do campo e o rato da cidade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ço Reservado para Conteúdo 3" descr="O rato do campo e o rato da cidade.JPG"/>
          <p:cNvPicPr/>
          <p:nvPr/>
        </p:nvPicPr>
        <p:blipFill>
          <a:blip r:embed="rId1"/>
          <a:stretch/>
        </p:blipFill>
        <p:spPr>
          <a:xfrm>
            <a:off x="395280" y="115920"/>
            <a:ext cx="84978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ço Reservado para Conteúdo 3" descr="O rato do campo e o rato da cidade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paço Reservado para Conteúdo 3" descr="O rato do campo e o rato da cidade 3.JP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ço Reservado para Conteúdo 3" descr="O rato do campo e o rato da cidade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spaço Reservado para Conteúdo 3" descr="O rato do campo e o rato da cidade 5.JPG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79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ço Reservado para Conteúdo 3" descr="O rato do campo e o rato da cidade 6.JPG"/>
          <p:cNvPicPr/>
          <p:nvPr/>
        </p:nvPicPr>
        <p:blipFill>
          <a:blip r:embed="rId1"/>
          <a:stretch/>
        </p:blipFill>
        <p:spPr>
          <a:xfrm>
            <a:off x="0" y="-184320"/>
            <a:ext cx="914400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spaço Reservado para Conteúdo 3" descr="O rato do campo e o rato da cidade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ço Reservado para Conteúdo 3" descr="O rato do campo e o rato da cidade 8.JPG"/>
          <p:cNvPicPr/>
          <p:nvPr/>
        </p:nvPicPr>
        <p:blipFill>
          <a:blip r:embed="rId1"/>
          <a:stretch/>
        </p:blipFill>
        <p:spPr>
          <a:xfrm>
            <a:off x="-181080" y="-176040"/>
            <a:ext cx="932508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3:40:02Z</dcterms:created>
  <dc:creator>ASPIRE 4732Z</dc:creator>
  <dc:description/>
  <dc:language>en-US</dc:language>
  <cp:lastModifiedBy>ASPIRE 4732Z</cp:lastModifiedBy>
  <dcterms:modified xsi:type="dcterms:W3CDTF">2013-09-20T00:16:59Z</dcterms:modified>
  <cp:revision>3</cp:revision>
  <dc:subject/>
  <dc:title>FÁBULA</dc:title>
</cp:coreProperties>
</file>